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CASHREG.WAV" ContentType="audio/x-wav"/>
  <Override PartName="/ppt/media/CAMERA.WAV" ContentType="audio/x-wav"/>
  <Override PartName="/ppt/media/CARBRAKE.WAV" ContentType="audio/x-wav"/>
  <Override PartName="/ppt/media/image8.png" ContentType="image/png"/>
  <Override PartName="/ppt/media/image3.png" ContentType="image/png"/>
  <Override PartName="/ppt/media/image11.wmf" ContentType="image/x-wmf"/>
  <Override PartName="/ppt/media/image17.wmf" ContentType="image/x-wmf"/>
  <Override PartName="/ppt/media/DRIVEBY.WAV" ContentType="audio/x-wav"/>
  <Override PartName="/ppt/media/image7.png" ContentType="image/png"/>
  <Override PartName="/ppt/media/GLASS.WAV" ContentType="audio/x-wav"/>
  <Override PartName="/ppt/media/image15.wmf" ContentType="image/x-wmf"/>
  <Override PartName="/ppt/media/image4.png" ContentType="image/png"/>
  <Override PartName="/ppt/media/image12.wmf" ContentType="image/x-wmf"/>
  <Override PartName="/ppt/media/TYPE.WAV" ContentType="audio/x-wav"/>
  <Override PartName="/ppt/media/image9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LASER.WAV" ContentType="audio/x-wav"/>
  <Override PartName="/ppt/media/image5.png" ContentType="image/png"/>
  <Override PartName="/ppt/media/image1.png" ContentType="image/png"/>
  <Override PartName="/ppt/media/CHIMES.WAV" ContentType="audio/x-wav"/>
  <Override PartName="/ppt/media/image18.wmf" ContentType="image/x-wmf"/>
  <Override PartName="/ppt/media/RICOCHET.WAV" ContentType="audio/x-wav"/>
  <Override PartName="/ppt/media/PROJCTOR.WAV" ContentType="audio/x-wav"/>
  <Override PartName="/ppt/media/image13.wmf" ContentType="image/x-wmf"/>
  <Override PartName="/ppt/media/EXPLODE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6AC-F8BE-49BC-BBDF-38C6624276FE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F363-7740-46B1-947E-2D886B7A2221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4F7-BBFD-4E32-B1F9-28B28D72569F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EEE-4078-4757-8E23-5D22FEA5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F5C-4D8F-4E1A-9790-7BB218E8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C4A-E759-4DB9-8F73-C43409C4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D57-B527-4600-AC5D-2D2E25CC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AA1-A5C7-4E98-A67E-2AD69477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A60-3532-4671-90F1-68B3D20F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8A43-0A8A-4FA2-BDB6-E25D527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6079-D0AF-42EC-9FDA-ACA9B44E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1424-11A8-4602-8622-36D3565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B153-60A5-43EF-991B-6BF802B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19DD-62DE-4304-92AD-16C8EAA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257-7B9C-4D52-887B-637CCA7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486-170B-4333-AF3C-8980960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BBE-0059-4D54-B01A-08D2800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5D6D-7008-4154-A0BB-EE24248D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089-32CF-4762-9676-9AF85750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7DA-6585-41E0-AF55-9A223455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96F-45B5-4417-9C61-3CCC652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64B-547C-4DE5-AB7B-12394250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12E-D844-4A02-96F0-CEE3F65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1FF-FA88-4090-BC3E-BCCE787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AE8-1939-4359-9A28-B5F5E42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13E-E216-4499-955F-5D0A1EA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B7B-C18B-43BA-BEEA-73756CD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824-FEAF-4BCB-9E89-2FCE09C8CF1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602-090E-4C70-92AE-CA60FB2AC51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RICOCHET.WAV"/><Relationship Id="rId3" Type="http://schemas.openxmlformats.org/officeDocument/2006/relationships/audio" Target="../media/CARBRAKE.WAV"/><Relationship Id="rId4" Type="http://schemas.openxmlformats.org/officeDocument/2006/relationships/audio" Target="../media/CASHREG.WAV"/><Relationship Id="rId5" Type="http://schemas.openxmlformats.org/officeDocument/2006/relationships/audio" Target="../media/DRUMROLL.WAV"/><Relationship Id="rId6" Type="http://schemas.openxmlformats.org/officeDocument/2006/relationships/audio" Target="../media/CHIMES.WAV"/><Relationship Id="rId7" Type="http://schemas.openxmlformats.org/officeDocument/2006/relationships/audio" Target="../media/GLASS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Times New Roman"/>
              </a:rPr>
              <a:t>El Pretérito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3809880" y="4724280"/>
          <a:ext cx="127656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724280"/>
                    <a:ext cx="12765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3"/>
          <p:cNvGraphicFramePr/>
          <p:nvPr/>
        </p:nvGraphicFramePr>
        <p:xfrm>
          <a:off x="1166760" y="1797120"/>
          <a:ext cx="718812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97120"/>
                    <a:ext cx="71881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(I was, you wer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fui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fu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fu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fu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fu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fu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cc"/>
                </a:solidFill>
                <a:latin typeface="Times New Roman"/>
              </a:rPr>
              <a:t>IR</a:t>
            </a:r>
            <a:br>
              <a:rPr sz="4400"/>
            </a:br>
            <a:r>
              <a:rPr b="1" lang="en-US" sz="4400" spc="-1" strike="noStrike">
                <a:solidFill>
                  <a:srgbClr val="ff00cc"/>
                </a:solidFill>
                <a:latin typeface="Times New Roman"/>
              </a:rPr>
              <a:t>(I went, you went…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 fu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 fui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/ella/Ud. fu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 fui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vosotros fui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ellos/ellas/Uds. fue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35712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1460" h="21600">
                <a:moveTo>
                  <a:pt x="0" y="0"/>
                </a:moveTo>
                <a:lnTo>
                  <a:pt x="41460" y="0"/>
                </a:lnTo>
                <a:lnTo>
                  <a:pt x="41460" y="21600"/>
                </a:lnTo>
                <a:lnTo>
                  <a:pt x="0" y="21600"/>
                </a:lnTo>
                <a:close/>
              </a:path>
              <a:path fill="lightenLess" w="41460" h="21600">
                <a:moveTo>
                  <a:pt x="0" y="0"/>
                </a:moveTo>
                <a:lnTo>
                  <a:pt x="41460" y="0"/>
                </a:lnTo>
                <a:lnTo>
                  <a:pt x="40060" y="1400"/>
                </a:lnTo>
                <a:lnTo>
                  <a:pt x="1400" y="1400"/>
                </a:lnTo>
                <a:close/>
              </a:path>
              <a:path fill="darken" w="41460" h="21600">
                <a:moveTo>
                  <a:pt x="41460" y="0"/>
                </a:moveTo>
                <a:lnTo>
                  <a:pt x="41460" y="21600"/>
                </a:lnTo>
                <a:lnTo>
                  <a:pt x="40060" y="20200"/>
                </a:lnTo>
                <a:lnTo>
                  <a:pt x="40060" y="1400"/>
                </a:lnTo>
                <a:close/>
              </a:path>
              <a:path fill="darkenLess" w="41460" h="21600">
                <a:moveTo>
                  <a:pt x="41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0" y="20200"/>
                </a:lnTo>
                <a:close/>
              </a:path>
              <a:path fill="lighten" w="41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0" h="21600">
                <a:moveTo>
                  <a:pt x="13723" y="10800"/>
                </a:moveTo>
                <a:lnTo>
                  <a:pt x="27736" y="3794"/>
                </a:lnTo>
                <a:lnTo>
                  <a:pt x="2773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>
            <a:off x="7848720" y="5943600"/>
            <a:ext cx="761760" cy="357120"/>
          </a:xfrm>
          <a:custGeom>
            <a:avLst/>
            <a:gdLst>
              <a:gd name="textAreaLeft" fmla="*/ 23040 w 761760"/>
              <a:gd name="textAreaRight" fmla="*/ 738720 w 761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50" h="21600">
                <a:moveTo>
                  <a:pt x="0" y="0"/>
                </a:moveTo>
                <a:lnTo>
                  <a:pt x="46050" y="0"/>
                </a:lnTo>
                <a:lnTo>
                  <a:pt x="46050" y="21600"/>
                </a:lnTo>
                <a:lnTo>
                  <a:pt x="0" y="21600"/>
                </a:lnTo>
                <a:close/>
              </a:path>
              <a:path fill="lightenLess" w="46050" h="21600">
                <a:moveTo>
                  <a:pt x="0" y="0"/>
                </a:moveTo>
                <a:lnTo>
                  <a:pt x="46050" y="0"/>
                </a:lnTo>
                <a:lnTo>
                  <a:pt x="44650" y="1400"/>
                </a:lnTo>
                <a:lnTo>
                  <a:pt x="1400" y="1400"/>
                </a:lnTo>
                <a:close/>
              </a:path>
              <a:path fill="darken" w="46050" h="21600">
                <a:moveTo>
                  <a:pt x="46050" y="0"/>
                </a:moveTo>
                <a:lnTo>
                  <a:pt x="46050" y="21600"/>
                </a:lnTo>
                <a:lnTo>
                  <a:pt x="44650" y="20200"/>
                </a:lnTo>
                <a:lnTo>
                  <a:pt x="44650" y="1400"/>
                </a:lnTo>
                <a:close/>
              </a:path>
              <a:path fill="darkenLess" w="46050" h="21600">
                <a:moveTo>
                  <a:pt x="4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0" y="20200"/>
                </a:lnTo>
                <a:close/>
              </a:path>
              <a:path fill="lighten" w="4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0" h="21600">
                <a:moveTo>
                  <a:pt x="16018" y="3794"/>
                </a:moveTo>
                <a:lnTo>
                  <a:pt x="30031" y="10800"/>
                </a:lnTo>
                <a:lnTo>
                  <a:pt x="1601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Hacer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(I did,you did……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Yo h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tú hic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él,ella.Ud hiz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nosotros hic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vosotros hic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ellos/ellas/Uds. hic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Práctic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jug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n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ns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st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e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ib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267080" y="2508120"/>
          <a:ext cx="3181320" cy="29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08120"/>
                    <a:ext cx="318132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3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8" dur="3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3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3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6" dur="3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3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3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2" dur="1" fill="hold"/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ff"/>
                </a:solidFill>
                <a:uFillTx/>
                <a:latin typeface="Times New Roman"/>
              </a:rPr>
              <a:t>Más Práctic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1.Nosotr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os libros de histori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2.Ella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pent)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el dinero en la tiend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3.T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mo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s bota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4.Manu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un libr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5.Y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 escuela a las do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6.Ell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ou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u="sng">
                <a:solidFill>
                  <a:srgbClr val="ff00cc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en la clas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7.Pabl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 loterí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371600" y="533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Respuesta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9000" y="2473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1447920"/>
            <a:ext cx="826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1.Nosotros _______   los libros de historia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2 Ellas __________el dinero en la tienda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3.Tú _________las botas. 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4.Manuel ________un libro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5.Yo ________la escuala a las dos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6.Ellos ____________ en la clase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7.Pabl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cc"/>
                </a:solidFill>
                <a:latin typeface="Times New Roman"/>
              </a:rPr>
              <a:t>_______</a:t>
            </a: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la lotería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743200" y="1523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ibimos</a:t>
            </a:r>
            <a:endParaRPr b="0" lang="en-US" sz="32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057400" y="2057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gastaron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981080" y="2590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taste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590920" y="3124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y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19051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í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2133720" y="4114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nsaron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2362320" y="480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n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 advTm="0">
    <p:blinds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3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Juan (hacer, ir) la tarea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.Ellos (viajar, buscar) a Méxic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.Yo (comer, leer) un buen libr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¿ Quién (llegar, ser) tu profesor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.Tú (vivir,comer) todo el pav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6.Nosotros (hacer,ser) un sandwich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7.Ud. (beber,recibir) mucho diner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.Vosotros(bailar,llevar) a la music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Juan __________ la tarea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.Ellos ___________ a Méxic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.Yo ________ un buen libr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¿ Quién ______ tu profesor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.Tú __________ todo el pav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6.Nosotros ___________un sandwich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7.Ud. ___________ mucho diner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.Vosotros ____________a la músic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666880" y="990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hizo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15680" y="167652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viajaron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63400" y="22096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leí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973960" y="281952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fu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907280" y="335268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comist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202200" y="38862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hicimo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440800" y="449568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recibi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51055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bailastei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Times New Roman"/>
              </a:rPr>
              <a:t>When do we use it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describe an action that took place and has ended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talk about yesterday and the past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3186000" y="3657600"/>
          <a:ext cx="2909880" cy="24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6000" y="3657600"/>
                    <a:ext cx="290988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Verb E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r” and “ir”(use the same set of ending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2133720" y="3352680"/>
          <a:ext cx="4724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4724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  <p:sndAc>
      <p:stSnd>
        <p:snd r:embed="rId3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2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Hablar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rop the infinitiv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Habl--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ding and add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omer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om--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pretérito”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Vivir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ding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Viv--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Times New Roman"/>
              </a:rPr>
              <a:t>“</a:t>
            </a:r>
            <a:r>
              <a:rPr b="1" lang="en-US" sz="6600" spc="-1" strike="noStrike">
                <a:solidFill>
                  <a:srgbClr val="0099cc"/>
                </a:solidFill>
                <a:latin typeface="Times New Roman"/>
              </a:rPr>
              <a:t>ar”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ó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1" name="Object 1028"/>
          <p:cNvGraphicFramePr/>
          <p:nvPr/>
        </p:nvGraphicFramePr>
        <p:xfrm>
          <a:off x="3152880" y="2376360"/>
          <a:ext cx="355284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376360"/>
                    <a:ext cx="35528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er &amp; ir”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ó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e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Habl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é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él/ella/Ud.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/ellas/Uds.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5549760" y="190512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Com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5267160" y="2209680"/>
          <a:ext cx="265752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209680"/>
                    <a:ext cx="265752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Escrib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97036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1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RBHS</dc:creator>
  <dc:description/>
  <dc:language>en-US</dc:language>
  <cp:lastModifiedBy>Box Elder School District</cp:lastModifiedBy>
  <dcterms:modified xsi:type="dcterms:W3CDTF">2012-03-12T14:40:24Z</dcterms:modified>
  <cp:revision>55</cp:revision>
  <dc:subject/>
  <dc:title>Training</dc:title>
</cp:coreProperties>
</file>